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144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BD25-DC2B-4109-96D3-2EA1E01EB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B857-A3EB-4F2C-9A5B-9A4C2194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86C8-1DF2-4621-A910-68FF11E60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20B7-9F4C-4B94-B784-10E9FCBEA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81F9-D0E0-4034-A463-57527976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CE3D-DC0A-4706-A6E4-5F36544C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DAB3-683D-4709-A6C7-16272618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5779-99AE-42B7-B61E-CE37722E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7A54-BD1F-41A4-A4D3-5CB1A5FD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F17F-6C43-4BFD-BC20-5C531613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3BBA-A027-4DA1-B1BC-167B53B2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DB94-2919-43EC-8E40-465E6A6A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49DC-A5D2-4B4A-AA54-3D31840A455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-1158840"/>
            <a:ext cx="6858000" cy="10305000"/>
            <a:chOff x="0" y="-1158840"/>
            <a:chExt cx="6858000" cy="10305000"/>
          </a:xfrm>
        </p:grpSpPr>
        <p:sp>
          <p:nvSpPr>
            <p:cNvPr id="42" name=""/>
            <p:cNvSpPr/>
            <p:nvPr/>
          </p:nvSpPr>
          <p:spPr>
            <a:xfrm>
              <a:off x="0" y="-1158840"/>
              <a:ext cx="685800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3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en-US" sz="370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370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62120" y="7269120"/>
              <a:ext cx="52578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apple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1714680" y="4419720"/>
              <a:ext cx="3429000" cy="3208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-1158840"/>
            <a:ext cx="6858000" cy="12088080"/>
            <a:chOff x="0" y="-1158840"/>
            <a:chExt cx="6858000" cy="12088080"/>
          </a:xfrm>
        </p:grpSpPr>
        <p:sp>
          <p:nvSpPr>
            <p:cNvPr id="46" name=""/>
            <p:cNvSpPr/>
            <p:nvPr/>
          </p:nvSpPr>
          <p:spPr>
            <a:xfrm>
              <a:off x="0" y="-1158840"/>
              <a:ext cx="685800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3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r>
                <a:rPr b="0" lang="en-US" sz="370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370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2120" y="7269120"/>
              <a:ext cx="5257800" cy="36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banana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1828800" y="4191120"/>
              <a:ext cx="3525840" cy="346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609480" y="-990720"/>
            <a:ext cx="746748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700" spc="-1" strike="noStrike">
                <a:solidFill>
                  <a:srgbClr val="000000"/>
                </a:solidFill>
                <a:latin typeface="Verdana"/>
              </a:rPr>
              <a:t>Dd</a:t>
            </a:r>
            <a:endParaRPr b="0" lang="en-US" sz="40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7269120"/>
            <a:ext cx="52578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Tahoma"/>
              </a:rPr>
              <a:t>dog</a:t>
            </a:r>
            <a:endParaRPr b="0" lang="en-US" sz="11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76520" y="4495680"/>
            <a:ext cx="338616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-407880" y="-1114560"/>
            <a:ext cx="746892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700" spc="-1" strike="noStrike">
                <a:solidFill>
                  <a:srgbClr val="000000"/>
                </a:solidFill>
                <a:latin typeface="Verdana"/>
              </a:rPr>
              <a:t>Gg</a:t>
            </a:r>
            <a:endParaRPr b="0" lang="en-US" sz="40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7269120"/>
            <a:ext cx="52578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Tahoma"/>
              </a:rPr>
              <a:t>gorilla</a:t>
            </a:r>
            <a:endParaRPr b="0" lang="en-US" sz="11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4114800"/>
            <a:ext cx="34732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-609480" y="-1219320"/>
            <a:ext cx="7467480" cy="10365480"/>
            <a:chOff x="-609480" y="-1219320"/>
            <a:chExt cx="7467480" cy="10365480"/>
          </a:xfrm>
        </p:grpSpPr>
        <p:sp>
          <p:nvSpPr>
            <p:cNvPr id="56" name=""/>
            <p:cNvSpPr/>
            <p:nvPr/>
          </p:nvSpPr>
          <p:spPr>
            <a:xfrm>
              <a:off x="-609480" y="-1219320"/>
              <a:ext cx="746748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54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Hh</a:t>
              </a:r>
              <a:endParaRPr b="0" lang="en-US" sz="40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2120" y="7269120"/>
              <a:ext cx="52578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hat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4495680"/>
            <a:ext cx="45910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-433440" y="-1190520"/>
            <a:ext cx="7467480" cy="10365120"/>
            <a:chOff x="-433440" y="-1190520"/>
            <a:chExt cx="7467480" cy="10365120"/>
          </a:xfrm>
        </p:grpSpPr>
        <p:sp>
          <p:nvSpPr>
            <p:cNvPr id="60" name=""/>
            <p:cNvSpPr/>
            <p:nvPr/>
          </p:nvSpPr>
          <p:spPr>
            <a:xfrm>
              <a:off x="-433440" y="-1190520"/>
              <a:ext cx="746748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54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Ii</a:t>
              </a:r>
              <a:endParaRPr b="0" lang="en-US" sz="40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38160" y="7297560"/>
              <a:ext cx="52578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igloo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90720" y="4495680"/>
            <a:ext cx="459252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-461880" y="-1190520"/>
            <a:ext cx="7467480" cy="10365120"/>
            <a:chOff x="-461880" y="-1190520"/>
            <a:chExt cx="7467480" cy="10365120"/>
          </a:xfrm>
        </p:grpSpPr>
        <p:sp>
          <p:nvSpPr>
            <p:cNvPr id="64" name=""/>
            <p:cNvSpPr/>
            <p:nvPr/>
          </p:nvSpPr>
          <p:spPr>
            <a:xfrm>
              <a:off x="-461880" y="-1190520"/>
              <a:ext cx="74674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09720" y="7297560"/>
              <a:ext cx="52578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jeep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5181480"/>
            <a:ext cx="4581360" cy="2495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80880" y="-1143000"/>
            <a:ext cx="746928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700" spc="-1" strike="noStrike">
                <a:solidFill>
                  <a:srgbClr val="000000"/>
                </a:solidFill>
                <a:latin typeface="Verdana"/>
              </a:rPr>
              <a:t>Jj</a:t>
            </a:r>
            <a:endParaRPr b="0" lang="en-US" sz="40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68" name=""/>
          <p:cNvSpPr/>
          <p:nvPr/>
        </p:nvSpPr>
        <p:spPr>
          <a:xfrm>
            <a:off x="2968560" y="108900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69" name=""/>
          <p:cNvSpPr/>
          <p:nvPr/>
        </p:nvSpPr>
        <p:spPr>
          <a:xfrm>
            <a:off x="2052720" y="7924680"/>
            <a:ext cx="253800" cy="31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70" name=""/>
          <p:cNvSpPr/>
          <p:nvPr/>
        </p:nvSpPr>
        <p:spPr>
          <a:xfrm>
            <a:off x="2581200" y="281160"/>
            <a:ext cx="712800" cy="385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-609480" y="-1219320"/>
            <a:ext cx="7467480" cy="11508480"/>
            <a:chOff x="-609480" y="-1219320"/>
            <a:chExt cx="7467480" cy="11508480"/>
          </a:xfrm>
        </p:grpSpPr>
        <p:sp>
          <p:nvSpPr>
            <p:cNvPr id="72" name=""/>
            <p:cNvSpPr/>
            <p:nvPr/>
          </p:nvSpPr>
          <p:spPr>
            <a:xfrm>
              <a:off x="-609480" y="-1219320"/>
              <a:ext cx="746748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54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Kk</a:t>
              </a:r>
              <a:endParaRPr b="0" lang="en-US" sz="40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2120" y="7269120"/>
              <a:ext cx="525780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Tahoma"/>
                </a:rPr>
                <a:t>kangaroo</a:t>
              </a:r>
              <a:endParaRPr b="0" lang="en-US" sz="96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95280" y="4114800"/>
            <a:ext cx="40388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-609480" y="-900000"/>
            <a:ext cx="7467480" cy="10197000"/>
            <a:chOff x="-609480" y="-900000"/>
            <a:chExt cx="7467480" cy="10197000"/>
          </a:xfrm>
        </p:grpSpPr>
        <p:sp>
          <p:nvSpPr>
            <p:cNvPr id="76" name=""/>
            <p:cNvSpPr/>
            <p:nvPr/>
          </p:nvSpPr>
          <p:spPr>
            <a:xfrm>
              <a:off x="-609480" y="-900000"/>
              <a:ext cx="7467480" cy="474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19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500" spc="-1" strike="noStrike">
                  <a:solidFill>
                    <a:srgbClr val="000000"/>
                  </a:solidFill>
                  <a:latin typeface="Verdana"/>
                </a:rPr>
                <a:t>Mm</a:t>
              </a:r>
              <a:endParaRPr b="0" lang="en-US" sz="305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62120" y="7588080"/>
              <a:ext cx="525780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66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600" spc="-1" strike="noStrike">
                  <a:solidFill>
                    <a:srgbClr val="000000"/>
                  </a:solidFill>
                  <a:latin typeface="Tahoma"/>
                </a:rPr>
                <a:t>melon</a:t>
              </a:r>
              <a:endParaRPr b="0" lang="en-US" sz="106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4581360" cy="33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30T18:41:34Z</dcterms:created>
  <dc:creator>רדמי אייל</dc:creator>
  <dc:description/>
  <dc:language>en-US</dc:language>
  <cp:lastModifiedBy>AYAD</cp:lastModifiedBy>
  <cp:lastPrinted>1998-09-06T20:29:36Z</cp:lastPrinted>
  <dcterms:modified xsi:type="dcterms:W3CDTF">2007-10-11T15:24:31Z</dcterms:modified>
  <cp:revision>30</cp:revision>
  <dc:subject/>
  <dc:title>ללא כותרת שקופית</dc:title>
</cp:coreProperties>
</file>